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E24-66F0-4E2E-A8B4-5F6A2D50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12F-2756-43D7-A7B8-8AF90C8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EBF-C5B6-4C37-8795-0E2CFA2F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2F0-26C0-40D4-B18F-423E8CDF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2DA-E7F3-4A09-A12C-96138D6A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6D1-F09D-4BF1-9CD5-036C8C5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6A3-8E34-4FD6-9DB1-89635568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13D-6775-4540-B97C-44D0D752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131-A0D2-4042-A13D-0E8BAF4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DA3-77CA-4D2C-BD2B-DAFF1B75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894-44F2-4F09-ABFE-091A3CF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F50-90C7-40D7-B833-989E3483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D3BBAAF-A223-4469-BE4F-8FB89E1010E4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电抗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2387520"/>
            <a:ext cx="3560760" cy="5130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普通限流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666800"/>
            <a:ext cx="1549440" cy="6048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>
            <a:off x="3048120" y="2670120"/>
            <a:ext cx="1403280" cy="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37808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电抗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4"/>
          <p:cNvSpPr/>
          <p:nvPr/>
        </p:nvSpPr>
        <p:spPr>
          <a:xfrm>
            <a:off x="4045680" y="12384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电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SubTitle_2"/>
          <p:cNvSpPr/>
          <p:nvPr/>
        </p:nvSpPr>
        <p:spPr>
          <a:xfrm>
            <a:off x="4451400" y="339732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分裂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2"/>
          <p:cNvSpPr/>
          <p:nvPr/>
        </p:nvSpPr>
        <p:spPr>
          <a:xfrm>
            <a:off x="2901960" y="3068640"/>
            <a:ext cx="1549440" cy="5983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847800" y="1273320"/>
            <a:ext cx="49816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定义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电抗器也叫电感器，一个导体通电时就会在其所占据的一定空间范围产生磁场，它能在电路中起到阻抗的作用，所以所有能载流的电导体都有一般意义上的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分类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并联电抗器、限流电抗器、滤波电抗器、和消弧线圈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电抗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电抗器"/>
          <p:cNvPicPr/>
          <p:nvPr/>
        </p:nvPicPr>
        <p:blipFill>
          <a:blip r:embed="rId2"/>
          <a:stretch/>
        </p:blipFill>
        <p:spPr>
          <a:xfrm>
            <a:off x="5962680" y="1190520"/>
            <a:ext cx="26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4"/>
          <p:cNvSpPr/>
          <p:nvPr/>
        </p:nvSpPr>
        <p:spPr>
          <a:xfrm>
            <a:off x="847800" y="662040"/>
            <a:ext cx="21272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国家标准规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电抗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8"/>
          <p:cNvGrpSpPr/>
          <p:nvPr/>
        </p:nvGrpSpPr>
        <p:grpSpPr>
          <a:xfrm>
            <a:off x="1228680" y="1293840"/>
            <a:ext cx="1984320" cy="2900160"/>
            <a:chOff x="1228680" y="1293840"/>
            <a:chExt cx="1984320" cy="2900160"/>
          </a:xfrm>
        </p:grpSpPr>
        <p:sp>
          <p:nvSpPr>
            <p:cNvPr id="105" name="矩形 5"/>
            <p:cNvSpPr/>
            <p:nvPr/>
          </p:nvSpPr>
          <p:spPr>
            <a:xfrm>
              <a:off x="1228680" y="1293840"/>
              <a:ext cx="1984320" cy="2900160"/>
            </a:xfrm>
            <a:prstGeom prst="rect">
              <a:avLst/>
            </a:prstGeom>
            <a:solidFill>
              <a:srgbClr val="6096e6"/>
            </a:solidFill>
            <a:ln w="1260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片 7" descr="电抗器标准"/>
            <p:cNvPicPr/>
            <p:nvPr/>
          </p:nvPicPr>
          <p:blipFill>
            <a:blip r:embed="rId2"/>
            <a:stretch/>
          </p:blipFill>
          <p:spPr>
            <a:xfrm>
              <a:off x="1234440" y="1293840"/>
              <a:ext cx="1972080" cy="289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图片 9" descr="电抗器规范3"/>
          <p:cNvPicPr/>
          <p:nvPr/>
        </p:nvPicPr>
        <p:blipFill>
          <a:blip r:embed="rId3"/>
          <a:stretch/>
        </p:blipFill>
        <p:spPr>
          <a:xfrm>
            <a:off x="3552840" y="3281400"/>
            <a:ext cx="5224320" cy="7160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电抗器规范2"/>
          <p:cNvPicPr/>
          <p:nvPr/>
        </p:nvPicPr>
        <p:blipFill>
          <a:blip r:embed="rId4"/>
          <a:stretch/>
        </p:blipFill>
        <p:spPr>
          <a:xfrm>
            <a:off x="3543480" y="1392120"/>
            <a:ext cx="4827240" cy="10717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1" descr="电抗器规范3"/>
          <p:cNvPicPr/>
          <p:nvPr/>
        </p:nvPicPr>
        <p:blipFill>
          <a:blip r:embed="rId5"/>
          <a:stretch/>
        </p:blipFill>
        <p:spPr>
          <a:xfrm>
            <a:off x="3535200" y="2481120"/>
            <a:ext cx="5270760" cy="5572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电抗器规范4"/>
          <p:cNvPicPr/>
          <p:nvPr/>
        </p:nvPicPr>
        <p:blipFill>
          <a:blip r:embed="rId6"/>
          <a:stretch/>
        </p:blipFill>
        <p:spPr>
          <a:xfrm>
            <a:off x="3641760" y="3009960"/>
            <a:ext cx="49626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4"/>
          <p:cNvSpPr/>
          <p:nvPr/>
        </p:nvSpPr>
        <p:spPr>
          <a:xfrm>
            <a:off x="847800" y="662040"/>
            <a:ext cx="6165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①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并联电抗器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吸收电力系统电容功率，限制电压升高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②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限流电抗器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限制电力系统短路电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③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滤波电抗器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限制电力系统高次谐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④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消弧线圈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减小中性点非直接接地系统接地电容电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电抗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普通限流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880920" y="984240"/>
            <a:ext cx="75852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单相、中间无抽头的空心电感线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应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正常工作时，电抗器功率损耗较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发生短路故障时，可以限制短路电流，维持母线较高的剩余电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普通限流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880920" y="865080"/>
            <a:ext cx="7256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安装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母线电抗器，安装在母线分段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线路电抗器，安装在线路出线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变电器回路电抗器，安装在变压器负荷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8" descr="电抗器接线"/>
          <p:cNvPicPr/>
          <p:nvPr/>
        </p:nvPicPr>
        <p:blipFill>
          <a:blip r:embed="rId2"/>
          <a:stretch/>
        </p:blipFill>
        <p:spPr>
          <a:xfrm>
            <a:off x="1797120" y="3021120"/>
            <a:ext cx="3851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5"/>
          <p:cNvSpPr/>
          <p:nvPr/>
        </p:nvSpPr>
        <p:spPr>
          <a:xfrm>
            <a:off x="406008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分裂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880920" y="865080"/>
            <a:ext cx="72565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在结构上与普通限流电抗器相类似，其结构为一中间有一抽头的空心电感线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应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与普通限流电抗器相比，解决了限制短路电流与保证正常压降不超过允许值的矛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矩形 6"/>
          <p:cNvSpPr/>
          <p:nvPr/>
        </p:nvSpPr>
        <p:spPr>
          <a:xfrm>
            <a:off x="880920" y="787320"/>
            <a:ext cx="7256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安装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发电机端电压出线；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发电机回路；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发电厂主变压器低压侧；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变电所变压器低压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406008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分裂电抗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7" descr="分裂电抗器接线"/>
          <p:cNvPicPr/>
          <p:nvPr/>
        </p:nvPicPr>
        <p:blipFill>
          <a:blip r:embed="rId2"/>
          <a:stretch/>
        </p:blipFill>
        <p:spPr>
          <a:xfrm>
            <a:off x="2347920" y="2327400"/>
            <a:ext cx="49608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3:36Z</dcterms:modified>
  <cp:revision>5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